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0D7-612D-4568-8D49-1C89BEA9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863A-776B-45EB-AD7E-850DC168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3B7-1319-475C-BA3F-BCBCD20B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6B0B-950A-403C-B464-0494B843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E14D-706A-41C4-B206-4ECF31B4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930-CEC7-4715-9D66-A7F372FC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6DF-F1B9-428D-AFD9-D0972A1E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059-6576-419E-963B-68217612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C23-83C9-4220-ABE7-AD80F954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B15-3218-49E8-ADBF-6EEBF513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88A-E922-4402-B771-380F9A5C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DC70-30FF-4A79-8E62-D5B4BBBD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156D-5E8C-4A34-B84C-A47C7CC125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6320" y="5373720"/>
            <a:ext cx="545004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70c0"/>
                </a:solidFill>
                <a:latin typeface="Calibri"/>
              </a:rPr>
              <a:t>enquiries@civilmart.com.au for more inform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900000" y="5243400"/>
            <a:ext cx="1465200" cy="479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YDROLOGO_2 inch"/>
          <p:cNvPicPr/>
          <p:nvPr/>
        </p:nvPicPr>
        <p:blipFill>
          <a:blip r:embed="rId2"/>
          <a:stretch/>
        </p:blipFill>
        <p:spPr>
          <a:xfrm>
            <a:off x="6804000" y="2774880"/>
            <a:ext cx="1486080" cy="50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6651720" y="1206360"/>
            <a:ext cx="241920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659640" y="2060640"/>
            <a:ext cx="1630440" cy="46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5"/>
          <a:stretch/>
        </p:blipFill>
        <p:spPr>
          <a:xfrm>
            <a:off x="1116000" y="723960"/>
            <a:ext cx="25606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01:28:49Z</dcterms:created>
  <dc:creator>Tony Nguyen</dc:creator>
  <dc:description/>
  <dc:language>en-US</dc:language>
  <cp:lastModifiedBy>Tony Nguyen</cp:lastModifiedBy>
  <dcterms:modified xsi:type="dcterms:W3CDTF">2023-04-26T01:09:25Z</dcterms:modified>
  <cp:revision>5</cp:revision>
  <dc:subject/>
  <dc:title>PowerPoint Presentation</dc:title>
</cp:coreProperties>
</file>