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B5F5-158F-4D60-BAC1-969940BDE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FDBE-57D1-45E3-BA95-F68D3BDA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E62C-1BEA-47FF-B9B4-1F879B476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8A66-F52A-47FA-8517-87EB4F6F3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B7AE-FB8D-4AF5-A66F-67886B30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A573-C08B-4DBA-B007-B6E8437A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7CFF-A732-45EC-942F-C9FBB61F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7791-780A-4618-B6A6-73605ADC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D984-C5F9-4889-97EA-51B0ABAB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29A5-45E2-4DE1-B8D5-2C1BB400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0D50-DFA1-4BFA-B8C1-F2EFC702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6755-8940-4EFC-A2CD-10B6303D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CDC5-98A1-4660-A82F-BCCD9C1A3F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6320" y="5373720"/>
            <a:ext cx="5450040" cy="34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70c0"/>
                </a:solidFill>
                <a:latin typeface="Calibri"/>
              </a:rPr>
              <a:t>enquiries@civilmart.com.au for more informati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1"/>
          <a:stretch/>
        </p:blipFill>
        <p:spPr>
          <a:xfrm>
            <a:off x="900000" y="5243400"/>
            <a:ext cx="1465200" cy="479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HYDROLOGO_2 inch"/>
          <p:cNvPicPr/>
          <p:nvPr/>
        </p:nvPicPr>
        <p:blipFill>
          <a:blip r:embed="rId2"/>
          <a:stretch/>
        </p:blipFill>
        <p:spPr>
          <a:xfrm>
            <a:off x="6804000" y="2774880"/>
            <a:ext cx="1486080" cy="506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3"/>
          <a:stretch/>
        </p:blipFill>
        <p:spPr>
          <a:xfrm>
            <a:off x="6651720" y="1206360"/>
            <a:ext cx="2419200" cy="792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659640" y="2060640"/>
            <a:ext cx="1630440" cy="466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5"/>
          <a:stretch/>
        </p:blipFill>
        <p:spPr>
          <a:xfrm>
            <a:off x="1116000" y="723960"/>
            <a:ext cx="256068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31T01:28:49Z</dcterms:created>
  <dc:creator>Tony Nguyen</dc:creator>
  <dc:description/>
  <dc:language>en-US</dc:language>
  <cp:lastModifiedBy>Tony Nguyen</cp:lastModifiedBy>
  <dcterms:modified xsi:type="dcterms:W3CDTF">2023-04-26T01:09:25Z</dcterms:modified>
  <cp:revision>5</cp:revision>
  <dc:subject/>
  <dc:title>PowerPoint Presentation</dc:title>
</cp:coreProperties>
</file>