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55C-6CC0-4C39-BD5D-E9B8DE13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161-E0A2-49C8-B693-E6FBD5AC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C96-ED65-4E5C-B84E-9D02169B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020-547D-4652-A499-85E86D86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356-C87C-4F1D-8C12-638BAE62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94B-E72F-438A-AD3C-41CF4AF6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DC8-2510-427F-BBAD-EDC2872D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5C5-B898-466F-A359-1C684AA2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C028-A116-426C-A00A-6D7E19CD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666-052B-4C67-A7E7-8496AEF3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5D1F-80F3-4D0B-B05D-8A6C237F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241-2DA6-4FCE-9D72-AA358179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9F9B-68DF-4454-9E42-9BEEB6D437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6320" y="5373720"/>
            <a:ext cx="545004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Calibri"/>
              </a:rPr>
              <a:t>enquiries@civilmart.com.au for more inform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900000" y="5243400"/>
            <a:ext cx="1465200" cy="47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YDROLOGO_2 inch"/>
          <p:cNvPicPr/>
          <p:nvPr/>
        </p:nvPicPr>
        <p:blipFill>
          <a:blip r:embed="rId2"/>
          <a:stretch/>
        </p:blipFill>
        <p:spPr>
          <a:xfrm>
            <a:off x="6804000" y="2774880"/>
            <a:ext cx="148608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651720" y="1206360"/>
            <a:ext cx="241920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659640" y="2060640"/>
            <a:ext cx="1630440" cy="46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1116000" y="723960"/>
            <a:ext cx="2560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01:28:49Z</dcterms:created>
  <dc:creator>Tony Nguyen</dc:creator>
  <dc:description/>
  <dc:language>en-US</dc:language>
  <cp:lastModifiedBy>Tony Nguyen</cp:lastModifiedBy>
  <dcterms:modified xsi:type="dcterms:W3CDTF">2023-04-26T01:09:25Z</dcterms:modified>
  <cp:revision>5</cp:revision>
  <dc:subject/>
  <dc:title>PowerPoint Presentation</dc:title>
</cp:coreProperties>
</file>