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213E-8D2D-4C55-B428-AA2388355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7BF3-41ED-4689-976B-6DCC4B8F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36CE-6815-4F0F-B10A-15F436469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DFBB-DFD1-41B9-B3CD-EBD5FA8B8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B550-249A-461D-82EE-988A88AD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FA98-6BAB-4631-9241-DC38F5C3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A4E6-06F8-44A1-9A85-AECC898F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E951-556C-43D5-96A4-85A59D74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F65B-91A4-47CF-9E7E-1EB1444C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9202-D070-4655-AD6C-F5E1C2F1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7A81-D774-4E9A-9A50-700CA655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D867-94E7-4F2E-B5FA-92AF5B1E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4447-B655-47BB-B6DD-2219D02F64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6320" y="5373720"/>
            <a:ext cx="5450040" cy="3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70c0"/>
                </a:solidFill>
                <a:latin typeface="Calibri"/>
              </a:rPr>
              <a:t>enquiries@civilmart.com.au for more informa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1"/>
          <a:stretch/>
        </p:blipFill>
        <p:spPr>
          <a:xfrm>
            <a:off x="900000" y="5243400"/>
            <a:ext cx="1465200" cy="479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HYDROLOGO_2 inch"/>
          <p:cNvPicPr/>
          <p:nvPr/>
        </p:nvPicPr>
        <p:blipFill>
          <a:blip r:embed="rId2"/>
          <a:stretch/>
        </p:blipFill>
        <p:spPr>
          <a:xfrm>
            <a:off x="6804000" y="2774880"/>
            <a:ext cx="1486080" cy="506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6651720" y="1206360"/>
            <a:ext cx="2419200" cy="792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659640" y="2060640"/>
            <a:ext cx="1630440" cy="466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5"/>
          <a:stretch/>
        </p:blipFill>
        <p:spPr>
          <a:xfrm>
            <a:off x="1116000" y="723960"/>
            <a:ext cx="256068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31T01:28:49Z</dcterms:created>
  <dc:creator>Tony Nguyen</dc:creator>
  <dc:description/>
  <dc:language>en-US</dc:language>
  <cp:lastModifiedBy>Tony Nguyen</cp:lastModifiedBy>
  <dcterms:modified xsi:type="dcterms:W3CDTF">2023-04-26T01:09:25Z</dcterms:modified>
  <cp:revision>5</cp:revision>
  <dc:subject/>
  <dc:title>PowerPoint Presentation</dc:title>
</cp:coreProperties>
</file>