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8A1-CA70-45BE-BF82-7FCFBE9F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DD94-4365-4EA1-BC23-237DF970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199-E681-466D-B8BD-D3BF973D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AF1E-F6FE-422A-B67B-D842F5AB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C89-7E39-4DBA-85BE-12140E50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04B4-3EEA-4135-8A8F-36AAAAAB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A43-3ABB-4549-9CA9-E7D538E7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2483-D6A1-4EA2-817D-0BC618A2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B10-AF9A-4797-B15C-0040AE14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5C4-6BA1-4010-8B1D-12EBB3D7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892D-C1ED-49A3-B511-DE17725A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961-AD62-43C2-B66A-96800A6B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FE04-2587-4821-A3EA-DE33F50842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6320" y="5373720"/>
            <a:ext cx="5450040" cy="34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70c0"/>
                </a:solidFill>
                <a:latin typeface="Calibri"/>
              </a:rPr>
              <a:t>enquiries@civilmart.com.au for more informa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900000" y="5243400"/>
            <a:ext cx="1465200" cy="479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YDROLOGO_2 inch"/>
          <p:cNvPicPr/>
          <p:nvPr/>
        </p:nvPicPr>
        <p:blipFill>
          <a:blip r:embed="rId2"/>
          <a:stretch/>
        </p:blipFill>
        <p:spPr>
          <a:xfrm>
            <a:off x="6804000" y="2774880"/>
            <a:ext cx="1486080" cy="50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6651720" y="1206360"/>
            <a:ext cx="2419200" cy="792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659640" y="2060640"/>
            <a:ext cx="1630440" cy="46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5"/>
          <a:stretch/>
        </p:blipFill>
        <p:spPr>
          <a:xfrm>
            <a:off x="1116000" y="723960"/>
            <a:ext cx="2560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31T01:28:49Z</dcterms:created>
  <dc:creator>Tony Nguyen</dc:creator>
  <dc:description/>
  <dc:language>en-US</dc:language>
  <cp:lastModifiedBy>Tony Nguyen</cp:lastModifiedBy>
  <dcterms:modified xsi:type="dcterms:W3CDTF">2023-04-26T01:09:25Z</dcterms:modified>
  <cp:revision>5</cp:revision>
  <dc:subject/>
  <dc:title>PowerPoint Presentation</dc:title>
</cp:coreProperties>
</file>