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BA557-5004-454D-AEA5-729579FEF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12D5B-88C6-437E-8DEB-6F65E482B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5EA92-3DA9-479E-A971-B6EF62091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B98C8-A678-4D87-AA92-A6CADA990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25F5D-D05E-412F-BA05-67A4BB36D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7709A-72E8-4425-B7E4-F021A54BD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BEBE6-AF2E-418E-89D7-42CF588D6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7DC51-F39C-41A7-AD74-E1F90D763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0ED15-18A3-4910-8480-93A070EF4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5DABC-7930-48E8-85CB-87ADDE3A4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CFCEC-8ACD-439E-AE53-F8C6B0DBC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1F744-6A40-41AA-8787-328EE77C2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76BB4-2AEB-4510-8737-22C1DD18CDE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2506320" y="5373720"/>
            <a:ext cx="5450040" cy="34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70c0"/>
                </a:solidFill>
                <a:latin typeface="Calibri"/>
              </a:rPr>
              <a:t>enquiries@civilmart.com.au for more information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7" descr=""/>
          <p:cNvPicPr/>
          <p:nvPr/>
        </p:nvPicPr>
        <p:blipFill>
          <a:blip r:embed="rId1"/>
          <a:stretch/>
        </p:blipFill>
        <p:spPr>
          <a:xfrm>
            <a:off x="900000" y="5243400"/>
            <a:ext cx="1465200" cy="4795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1" descr="HYDROLOGO_2 inch"/>
          <p:cNvPicPr/>
          <p:nvPr/>
        </p:nvPicPr>
        <p:blipFill>
          <a:blip r:embed="rId2"/>
          <a:stretch/>
        </p:blipFill>
        <p:spPr>
          <a:xfrm>
            <a:off x="6804000" y="2774880"/>
            <a:ext cx="1486080" cy="5065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"/>
          <p:cNvPicPr/>
          <p:nvPr/>
        </p:nvPicPr>
        <p:blipFill>
          <a:blip r:embed="rId3"/>
          <a:stretch/>
        </p:blipFill>
        <p:spPr>
          <a:xfrm>
            <a:off x="6651720" y="1206360"/>
            <a:ext cx="2419200" cy="7923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"/>
          <p:cNvPicPr/>
          <p:nvPr/>
        </p:nvPicPr>
        <p:blipFill>
          <a:blip r:embed="rId4"/>
          <a:stretch/>
        </p:blipFill>
        <p:spPr>
          <a:xfrm>
            <a:off x="6659640" y="2060640"/>
            <a:ext cx="1630440" cy="4665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"/>
          <p:cNvPicPr/>
          <p:nvPr/>
        </p:nvPicPr>
        <p:blipFill>
          <a:blip r:embed="rId5"/>
          <a:stretch/>
        </p:blipFill>
        <p:spPr>
          <a:xfrm>
            <a:off x="1116000" y="723960"/>
            <a:ext cx="2560680" cy="9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5-31T01:28:49Z</dcterms:created>
  <dc:creator>Tony Nguyen</dc:creator>
  <dc:description/>
  <dc:language>en-US</dc:language>
  <cp:lastModifiedBy>Tony Nguyen</cp:lastModifiedBy>
  <dcterms:modified xsi:type="dcterms:W3CDTF">2023-04-26T01:09:25Z</dcterms:modified>
  <cp:revision>5</cp:revision>
  <dc:subject/>
  <dc:title>PowerPoint Presentation</dc:title>
</cp:coreProperties>
</file>